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6C1B-85A8-423B-9868-3C52F9A6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DFD7-02A9-45B1-81DA-977D862D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EB9-6C05-4D15-9562-AD6F6DB5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EE65-1506-43D2-9B87-3F050407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E6B1-42A3-4384-A5E3-E5D8C2EC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AE64-609B-4BE4-A8FD-64B1E54C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9FFE-9594-4A93-AFA2-2D432166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124D-FD32-4BBE-ADCB-A78BAA31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5505-42A8-4E54-8752-27BD0F52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2C91-5377-40DF-9A44-4C77F185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E7FF-D37F-406B-900B-FB185FA5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2F42-F127-49D7-9744-55F0EFB6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5448-0869-4AF0-858F-A6DC8749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6A26-2700-4CB0-92B6-D3B6AB90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EAE6-3EC9-4AE1-AA7C-C1C30372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5147-970B-4380-A4FD-954E8788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B190-C3E1-473D-AF49-EEAAEC9A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59F-84EE-4406-8E69-A01DA276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F43-B942-406A-97E5-E8DF2B4E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CE41-7C20-4651-9AE4-89084CC7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2854-88B9-49E3-8493-CDC4CD5E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6EBB-2C32-4A26-8103-2A47BADA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E04-5654-4FFD-B787-C483BDC1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3FA4-8971-48FE-8F8D-6452BCFD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7D83-94CE-4575-85FD-E2DF9D9D0F62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FF7E-8E9E-4E3A-9C9B-91E5A4B686B9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231840" y="993600"/>
            <a:ext cx="8875800" cy="2749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-158760" y="-103320"/>
            <a:ext cx="9717120" cy="2163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The Revolution Continues: Leftist Hard Core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May 10 Communist Organiz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se in Point: The United Freedom Fro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2" descr=""/>
          <p:cNvPicPr/>
          <p:nvPr/>
        </p:nvPicPr>
        <p:blipFill>
          <a:blip r:embed="rId1"/>
          <a:stretch/>
        </p:blipFill>
        <p:spPr>
          <a:xfrm>
            <a:off x="-158760" y="-103320"/>
            <a:ext cx="9717120" cy="2163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Single-Issue Violence on the Lef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Unabomb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co-Terroris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nimal Liberation Fron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Earth Liberation Fron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31240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6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Legacy of the Ku Klux Kla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acial Mysticism: Neo-Nazi Terror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triot Threa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Rectangle 2" descr=""/>
          <p:cNvPicPr/>
          <p:nvPr/>
        </p:nvPicPr>
        <p:blipFill>
          <a:blip r:embed="rId1"/>
          <a:stretch/>
        </p:blipFill>
        <p:spPr>
          <a:xfrm>
            <a:off x="0" y="-103320"/>
            <a:ext cx="9144000" cy="2163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The Legacy of the Ku Klux Kla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deolog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rst-Era Kl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-Era Kl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-Era Kl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-Era Kl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-Era Kl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Footer Placeholder 1"/>
          <p:cNvSpPr/>
          <p:nvPr/>
        </p:nvSpPr>
        <p:spPr>
          <a:xfrm>
            <a:off x="31240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Rectangle 2" descr=""/>
          <p:cNvPicPr/>
          <p:nvPr/>
        </p:nvPicPr>
        <p:blipFill>
          <a:blip r:embed="rId1"/>
          <a:stretch/>
        </p:blipFill>
        <p:spPr>
          <a:xfrm>
            <a:off x="0" y="-103320"/>
            <a:ext cx="9144000" cy="2163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Racial Mysticism: Neo-Nazi Terror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nderlying Ideolog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hristian Identity, Creativity, Racist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Ásatrú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acial Holy Wa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Ord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Zionist Occupation Govern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2" descr=""/>
          <p:cNvPicPr/>
          <p:nvPr/>
        </p:nvPicPr>
        <p:blipFill>
          <a:blip r:embed="rId1"/>
          <a:stretch/>
        </p:blipFill>
        <p:spPr>
          <a:xfrm>
            <a:off x="0" y="-103320"/>
            <a:ext cx="9144000" cy="2163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Patriot Threa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are Terrorist Conspirac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klahoma City Bomb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ilitia Organiz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atriot Organiz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Footer Placeholder 1"/>
          <p:cNvSpPr/>
          <p:nvPr/>
        </p:nvSpPr>
        <p:spPr>
          <a:xfrm>
            <a:off x="3124080" y="641664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384120" y="122400"/>
            <a:ext cx="8588520" cy="1676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ihad in Americ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ptember 11, 2001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se in Point: The Threat from Homegrown Jihadis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Footer Placeholder 1"/>
          <p:cNvSpPr/>
          <p:nvPr/>
        </p:nvSpPr>
        <p:spPr>
          <a:xfrm>
            <a:off x="31240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2" descr=""/>
          <p:cNvPicPr/>
          <p:nvPr/>
        </p:nvPicPr>
        <p:blipFill>
          <a:blip r:embed="rId1"/>
          <a:stretch/>
        </p:blipFill>
        <p:spPr>
          <a:xfrm>
            <a:off x="-66600" y="-103320"/>
            <a:ext cx="9534600" cy="2163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Jihad in Americ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ecursor Incidents to the Modern Environ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ise of New Terrorist Environ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peratives Entering the United Stat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upport Cells and Individua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3124080" y="6416640"/>
            <a:ext cx="36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ctangle 2" descr=""/>
          <p:cNvPicPr/>
          <p:nvPr/>
        </p:nvPicPr>
        <p:blipFill>
          <a:blip r:embed="rId1"/>
          <a:stretch/>
        </p:blipFill>
        <p:spPr>
          <a:xfrm>
            <a:off x="-66600" y="-103320"/>
            <a:ext cx="9534600" cy="2163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September 11, 2001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otivation of 19 Al Qaeda Terroris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ymbolism of the Targe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Rectangle 2" descr=""/>
          <p:cNvPicPr/>
          <p:nvPr/>
        </p:nvPicPr>
        <p:blipFill>
          <a:blip r:embed="rId1"/>
          <a:stretch/>
        </p:blipFill>
        <p:spPr>
          <a:xfrm>
            <a:off x="-66600" y="-103320"/>
            <a:ext cx="9534600" cy="2163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ase in Point: The Threat from Homegrown Jihadis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Fort Hood Incid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Major Nidal Has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nwar al-Awlaki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Boston Marathon Bomb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2" descr=""/>
          <p:cNvPicPr/>
          <p:nvPr/>
        </p:nvPicPr>
        <p:blipFill>
          <a:blip r:embed="rId1"/>
          <a:stretch/>
        </p:blipFill>
        <p:spPr>
          <a:xfrm>
            <a:off x="298440" y="231840"/>
            <a:ext cx="8467560" cy="1218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01680" y="2362320"/>
            <a:ext cx="854064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ad00"/>
                </a:solidFill>
                <a:latin typeface="Book Antiqua"/>
              </a:rPr>
              <a:t>The Threat at Home</a:t>
            </a:r>
            <a:endParaRPr b="0" lang="en-US" sz="6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ad00"/>
                </a:solidFill>
                <a:latin typeface="Book Antiqua"/>
              </a:rPr>
              <a:t>Domestic Terrorism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Footer Placeholder 1"/>
          <p:cNvSpPr/>
          <p:nvPr/>
        </p:nvSpPr>
        <p:spPr>
          <a:xfrm>
            <a:off x="3124080" y="641664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7200" y="-1260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eft-Wing Extremism in the United Stat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ight-Wing Extremism in the United Stat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urces of International Terror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Footer Placeholder 1"/>
          <p:cNvSpPr/>
          <p:nvPr/>
        </p:nvSpPr>
        <p:spPr>
          <a:xfrm>
            <a:off x="3124080" y="641664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77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Left-Wing Extremism in the United Stat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bor Activis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eople’s Righ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ngle Issu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uestioning Tradi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dealistic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Footer Placeholder 1"/>
          <p:cNvSpPr/>
          <p:nvPr/>
        </p:nvSpPr>
        <p:spPr>
          <a:xfrm>
            <a:off x="3124080" y="641664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77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Right-Wing Extremism in the United Stat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aditional Valu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undamentalist Religious Valu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ar and Fringe Right Racial, Mystical, or Conspiracy Belief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stalgic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Footer Placeholder 1"/>
          <p:cNvSpPr/>
          <p:nvPr/>
        </p:nvSpPr>
        <p:spPr>
          <a:xfrm>
            <a:off x="3124080" y="6416640"/>
            <a:ext cx="34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77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Sources of International Terror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ld War Origi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iddle Eastern Spillov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eign Nationals and Symbolic Targe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3124080" y="641664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298440" y="122400"/>
            <a:ext cx="8753400" cy="1676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enerational Rebellion: New Left Terror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ivil Strife: Ethnonationalist Terrorism on the Lef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Revolution Continues: Leftist Hard Cor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gle-Issue Violence on the Lef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Footer Placeholder 1"/>
          <p:cNvSpPr/>
          <p:nvPr/>
        </p:nvSpPr>
        <p:spPr>
          <a:xfrm>
            <a:off x="3124080" y="641664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2" descr=""/>
          <p:cNvPicPr/>
          <p:nvPr/>
        </p:nvPicPr>
        <p:blipFill>
          <a:blip r:embed="rId1"/>
          <a:stretch/>
        </p:blipFill>
        <p:spPr>
          <a:xfrm>
            <a:off x="-158760" y="-103320"/>
            <a:ext cx="9717120" cy="2163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Generational Rebellion: New Left Terror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Weatherman/Weather Underground Organiz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Symbionese Liberation Arm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-158760" y="-103320"/>
            <a:ext cx="9717120" cy="2163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ivil Strife: Ethnonationalist Terrorism on the Lef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Black Liberation Move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Black Liberation Arm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uerto Rican Independentista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FAL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Footer Placeholder 1"/>
          <p:cNvSpPr/>
          <p:nvPr/>
        </p:nvSpPr>
        <p:spPr>
          <a:xfrm>
            <a:off x="3124080" y="641664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8:52:59Z</dcterms:created>
  <dc:creator>gmartin</dc:creator>
  <dc:description/>
  <dc:language>en-US</dc:language>
  <cp:lastModifiedBy>Julie Griffin</cp:lastModifiedBy>
  <dcterms:modified xsi:type="dcterms:W3CDTF">2014-06-30T23:46:02Z</dcterms:modified>
  <cp:revision>129</cp:revision>
  <dc:subject/>
  <dc:title>Slide 1</dc:title>
</cp:coreProperties>
</file>